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6C3-8D2F-4FF5-9B33-C265F598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75E-D4E2-41AF-83DD-11C94D11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33F-4455-4E55-AF35-8639839C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253-17A2-4FBF-B0E8-C6C9C3CB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378E-A8B7-4C0C-A9D9-992669DF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C0F9-3AD7-4835-8375-885F6136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EF2-05E6-4B62-AE72-DB66A6A3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0926-D9EF-47A2-86BD-E0A7ED83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64FF-B598-479D-A4B7-74398470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D9EB-76A8-46B7-B9F0-CFD05284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7A4B-DBD0-4338-A8D0-6FA1203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00A-3F1C-43A0-8FA4-0AC52F96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13F6-CA62-4981-8AF5-927C019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0551-C01D-4FC7-A464-003AD87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64E7-0805-4FAC-B3B1-956D74EC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924D-EA41-43F2-94DB-26F0C297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5299-A610-42AE-9DEA-7042C258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E650-3A1D-4782-BE9B-ABAC837C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E9691-CC35-4C94-BFF2-4544BAA8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6ED3-6EA2-49E4-9951-D459AA3F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4F91-920C-4572-B7BB-45EE870F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29A7-0477-43D0-98DA-243965A5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FB7-EEA8-44A1-85B8-2CD12A43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E948-3FE7-474C-B575-D72E848E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2BB96-48BB-470D-ADC6-A2187BD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5CFA-6F5D-4EE8-8B96-CE147B9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8C5B-D261-476E-8B65-0D428551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05FF-A8BF-47C7-BA5A-3924C90A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39D7-3C30-4DD3-9AE7-BF87514B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D590-D2CC-4F4B-B23D-269C3746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22FCD-509E-497E-AADB-DFA5082C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6394-16F1-4207-92C2-3C0C5328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56B0-405A-45D0-982F-566A0617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17B-4DE5-436C-AC80-8B13F677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749C6-0E1B-4893-B229-2559DE4B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6EDC8-3C0E-480D-AD45-15BE7958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EE57-8C90-4138-AA65-DE36E69B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63AF-B9A0-4E07-98A9-1C472086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69AD-77D7-452D-8AF5-D2FEE9A5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2E62-482D-40CB-BF67-07306013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B86D-2915-45A2-B970-5B173413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0C6C-BF9D-4FF1-8DA9-BA2F6345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8F4DE-5C1C-445C-9F59-A2118FF8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AEF-BA89-4197-BF51-5BD811CE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A22-CCD3-412E-B7C0-B2098E5E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CFE-E329-44E2-965F-E2C293EB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222-64CF-4667-A967-729AA32F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521-CF8C-40C1-800B-5813429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C1DE-84C8-4AA1-AB3A-0BC1CF0679FE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BB05-9B73-458F-A822-ED6C183B5BA6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5606-86DF-46BE-9641-98E5DE603001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4356-A200-4FFC-872D-4406A3D5751E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360" y="3886200"/>
            <a:ext cx="707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Lic. OSCAR GUILLERMO CORREA TOV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oordinad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 Rectángulo"/>
          <p:cNvSpPr/>
          <p:nvPr/>
        </p:nvSpPr>
        <p:spPr>
          <a:xfrm>
            <a:off x="428760" y="1220760"/>
            <a:ext cx="828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ner como pilares que garanticen la Convivencia en nuestro colegio, los valores de RESPETO,  TOLERANCIA, DIALOGO y CONCILIAC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r estudiantes capaces para vivir en comunidad, amparados en los principios de la ética y la mor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r un ambiente de sana convivencia entre los miembros de la Comunidad Educativa para facilitar el buen rendimiento académico de los educan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ientar el desarrollo del estudiante como un ser Singular, Autónomo, Social y Trascendente; por medio del seguimiento mutuo de valores y testimonio de v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928800" y="151524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anual de Conviv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ey de Infancia y Adolescenc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asistencia diaria (Fallas y retardo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ntradas y salid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xcus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tación a padres de famili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urnos de disciplina (Profesore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uniform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a de compromiso por reincidencia (Firma del estudiant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a de compromiso por reincidencia (Firma del Padre de Familia y estudiant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dor del Estudiante.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3 Rectángulo"/>
          <p:cNvSpPr/>
          <p:nvPr/>
        </p:nvSpPr>
        <p:spPr>
          <a:xfrm>
            <a:off x="2500200" y="285840"/>
            <a:ext cx="38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omic"/>
                <a:ea typeface="Times New Roman"/>
              </a:rPr>
              <a:t>RECURSO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1357200" y="2083680"/>
            <a:ext cx="650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RECHO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  la facultad que tiene cada persona para recibir, decidir o exigir algo libremente sin lesionar a los demás. Todo derecho lleva por consiguiente un deber que consiste en la contraprestación que la ESCUELA como comunidad organizada puede exigir a cada uno de nosotros, esto es, cuando tenemos derechos tenemos obligaciones; lo que es ejercitable como derecho para unos es exigible como deber para otr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1 Título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321760" cy="1620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857160" y="2545920"/>
            <a:ext cx="7643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on aquellas normas, que los profesores y estudiantes cumplirán para mejorar el ambiente de convivencia en el aula de clase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Hora Clase: 55 minutos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l comienzo los 5 minutos restantes se utilizarán para que el profesor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De informaciones adicionales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De permiso a los estudiantes para que vayan al baño en forma ordenada e individual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reparar los materiales para la clase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vacuar el salón de clase y el edificio en forma ordenada y rápida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n la última hora, dar 10 minutos para organizar los puestos, recoger papeles y evacuar en forma rápida y ordenada los salones de clase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n caso de fallar un profesor a clase, sin dejar trabajo para la hora correspondiente, todos los estudiantes podrán estar dentro del salón aprovechando el tiempo en otra actividad académica o todos salir al patio a desarrollar actividades de tipo recreativo o deportivo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ursos de cada piso organizarán un periódico mural, y serán responsables de su cuidado y actualización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Mantener el celular en modo vibración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os grupos de apoyo se organizarán con los estudiantes de grado noveno y octavo, así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rimer Semestre: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902, 904, 903, 90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egundo semestre: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801, 802, 803, 804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Título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1428840" y="2085480"/>
            <a:ext cx="607212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ibiré respuesta a cualquier petición de conformidad con el derecho de petición consagrado en el artículo 23 de la Constitución Nacional teniendo en cuenta para esto el conducto regul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 de Curs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ordinado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ientador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torí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433520" indent="-2728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jo Direc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4"/>
          <p:cNvSpPr/>
          <p:nvPr/>
        </p:nvSpPr>
        <p:spPr>
          <a:xfrm>
            <a:off x="785880" y="192888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remen Bd BT"/>
                <a:ea typeface="Times New Roman"/>
              </a:rPr>
              <a:t>DIALOG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Maestro – 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Observador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Line 32"/>
          <p:cNvSpPr/>
          <p:nvPr/>
        </p:nvSpPr>
        <p:spPr>
          <a:xfrm>
            <a:off x="1571760" y="1714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1571760" y="2571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30"/>
          <p:cNvSpPr/>
          <p:nvPr/>
        </p:nvSpPr>
        <p:spPr>
          <a:xfrm>
            <a:off x="1500120" y="36432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Line 29"/>
          <p:cNvSpPr/>
          <p:nvPr/>
        </p:nvSpPr>
        <p:spPr>
          <a:xfrm>
            <a:off x="6286680" y="4643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5214960" y="48578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1571760" y="857160"/>
            <a:ext cx="468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2500200" y="285840"/>
            <a:ext cx="3200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80"/>
                </a:solidFill>
                <a:latin typeface="Tahoma"/>
                <a:ea typeface="Times New Roman"/>
              </a:rPr>
              <a:t>PROCESO FORM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Line 25"/>
          <p:cNvSpPr/>
          <p:nvPr/>
        </p:nvSpPr>
        <p:spPr>
          <a:xfrm>
            <a:off x="1571760" y="8571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Line 24"/>
          <p:cNvSpPr/>
          <p:nvPr/>
        </p:nvSpPr>
        <p:spPr>
          <a:xfrm>
            <a:off x="4071960" y="71424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Line 23"/>
          <p:cNvSpPr/>
          <p:nvPr/>
        </p:nvSpPr>
        <p:spPr>
          <a:xfrm>
            <a:off x="6215040" y="8571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928800" y="1214280"/>
            <a:ext cx="13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remen Bd BT"/>
                <a:ea typeface="Times New Roman"/>
              </a:rPr>
              <a:t>FALTAS LEV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57720" y="1285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remen Bd BT"/>
                <a:ea typeface="Times New Roman"/>
              </a:rPr>
              <a:t>FALTAS GRAV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5500800" y="12142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remen Bd BT"/>
                <a:ea typeface="Times New Roman"/>
              </a:rPr>
              <a:t>FALTAS ESPÈCIAL GRAVEDAD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500040" y="2857680"/>
            <a:ext cx="205740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remen Bd BT"/>
                <a:ea typeface="Times New Roman"/>
              </a:rPr>
              <a:t>CONCERTACIO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Maestro – 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Director de Curs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Observador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571680" y="4000680"/>
            <a:ext cx="2057400" cy="1257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Bremen Bd BT"/>
                <a:ea typeface="Times New Roman"/>
              </a:rPr>
              <a:t>Tarjeta VERD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00"/>
                </a:solidFill>
                <a:latin typeface="Berlin Sans FB"/>
                <a:ea typeface="Times New Roman"/>
              </a:rPr>
              <a:t>Director de Curs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00"/>
                </a:solidFill>
                <a:latin typeface="Berlin Sans FB"/>
                <a:ea typeface="Times New Roman"/>
              </a:rPr>
              <a:t>Padre de Familia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Berlin Sans FB"/>
                <a:ea typeface="Times New Roman"/>
              </a:rPr>
              <a:t>COMPROMISO CONVIVENCIA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2643120" y="46432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4071960" y="1714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071880" y="2071800"/>
            <a:ext cx="1942920" cy="102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Bremen Bd BT"/>
                <a:ea typeface="Times New Roman"/>
              </a:rPr>
              <a:t>Tarjeta amarill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99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9900"/>
                </a:solidFill>
                <a:latin typeface="Berlin Sans FB"/>
                <a:ea typeface="Times New Roman"/>
              </a:rPr>
              <a:t>Padre de Familia Orientador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Berlin Sans FB"/>
                <a:ea typeface="Times New Roman"/>
              </a:rPr>
              <a:t>ACTA DE COMPROMIS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5000760" y="2571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5214960" y="142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5286240" y="1428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6215040" y="16430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57880" y="1928880"/>
            <a:ext cx="1942920" cy="1257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remen Bd BT"/>
                <a:ea typeface="Times New Roman"/>
              </a:rPr>
              <a:t>Tarjeta roj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Padre de Famili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Orientador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ordinador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SUSPENSIO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6215040" y="31431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357880" y="3357720"/>
            <a:ext cx="1942920" cy="1371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remen Bd BT"/>
                <a:ea typeface="Times New Roman"/>
              </a:rPr>
              <a:t>Tarjeta roj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Padre de Famili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mité de Conciliació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RECTOR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MATRICULA DE ÚLTIMA OPORTUNIDAD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4071960" y="5072040"/>
            <a:ext cx="1942920" cy="160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remen Bd BT"/>
                <a:ea typeface="Times New Roman"/>
              </a:rPr>
              <a:t>Tarjeta roj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Padre de Famili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Junta de Profesor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mité de Conciliació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NSEJO DIRECTIV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ANCELACION DE CUP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6357960" y="5072040"/>
            <a:ext cx="1942920" cy="160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remen Bd BT"/>
                <a:ea typeface="Times New Roman"/>
              </a:rPr>
              <a:t>Tarjeta roj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Padre de Famili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Junta de Profesor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mité de Conciliació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ONSEJO DIRECTIV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Berlin Sans FB"/>
                <a:ea typeface="Times New Roman"/>
              </a:rPr>
              <a:t>CANCELACION DE MATRICULA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Line 2"/>
          <p:cNvSpPr/>
          <p:nvPr/>
        </p:nvSpPr>
        <p:spPr>
          <a:xfrm>
            <a:off x="7358040" y="48578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Line 1"/>
          <p:cNvSpPr/>
          <p:nvPr/>
        </p:nvSpPr>
        <p:spPr>
          <a:xfrm>
            <a:off x="5214960" y="485784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Rectangle 35"/>
          <p:cNvSpPr/>
          <p:nvPr/>
        </p:nvSpPr>
        <p:spPr>
          <a:xfrm>
            <a:off x="434880" y="360"/>
            <a:ext cx="81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TES DE CORREGIR BUSQUEMOS LOS MEDIOS PARA QUE  EL ESTUDIANTE NO COMETA LAS   FALTA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Rectangle 49"/>
          <p:cNvSpPr/>
          <p:nvPr/>
        </p:nvSpPr>
        <p:spPr>
          <a:xfrm>
            <a:off x="4442760" y="29520"/>
            <a:ext cx="25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39 Conector recto"/>
          <p:cNvSpPr/>
          <p:nvPr/>
        </p:nvSpPr>
        <p:spPr>
          <a:xfrm flipH="1">
            <a:off x="2985840" y="1428840"/>
            <a:ext cx="14040" cy="3214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3000240" y="14288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1 Título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2786040" y="2286000"/>
            <a:ext cx="3429000" cy="3772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VERD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udiante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un compromiso CONVIVENCIAL con Director de Curso y Padres De Familia,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571680" y="1428840"/>
            <a:ext cx="3429000" cy="37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AMARILL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Alumno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un ACTA DE COMPROMISO con la Orientadora y Padres de Familia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643280" y="1428840"/>
            <a:ext cx="3429000" cy="388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ROJ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Alumno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una SUSPENSION con la Orientadora, Coordinador de Procesos Formativos y Padres de Familia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71680" y="1571760"/>
            <a:ext cx="3429000" cy="388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ROJ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Alumno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una MATRICULA DE ULTIMA OPORTUNIDAD con el Comité de Conciliación, Rector y Padres de Familia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714920" y="1571760"/>
            <a:ext cx="3429000" cy="388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ROJ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Alumno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CANCELACION DE CUPO con el Comité de Conciliación, Junta de Profesores, Rector y Padres de Familia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786040" y="1714680"/>
            <a:ext cx="3429000" cy="388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Colegio Departamental Nacionalizad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RUFINO CUERV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TARJETA ROJ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Alumno:  _____________________________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Grado: __________ 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echa:  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Establece CANCELACION DE MATRICULA con el Comité de Conciliación, Junta de Profesores, Rector y Padres de Familia por incumplir el Manual de Convivencia en: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otivo: ___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Alumno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Me doy por enterado,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__________________________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irma  Padre y/o Acudiente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ila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WordArt 2"/>
          <p:cNvSpPr txBox="1"/>
          <p:nvPr/>
        </p:nvSpPr>
        <p:spPr>
          <a:xfrm>
            <a:off x="1857240" y="1571760"/>
            <a:ext cx="5048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lgerianBasD"/>
              </a:rPr>
              <a:t>Convivenc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lgerianBasD"/>
              <a:ea typeface="AlgerianBasD"/>
            </a:endParaRPr>
          </a:p>
        </p:txBody>
      </p:sp>
      <p:sp>
        <p:nvSpPr>
          <p:cNvPr id="199" name="WordArt 3"/>
          <p:cNvSpPr txBox="1"/>
          <p:nvPr/>
        </p:nvSpPr>
        <p:spPr>
          <a:xfrm rot="5400000">
            <a:off x="-705960" y="4236120"/>
            <a:ext cx="4057920" cy="81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Dialogo</a:t>
            </a:r>
            <a:endParaRPr b="0" lang="en-US" sz="5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 rot="5400000">
            <a:off x="5715360" y="4214160"/>
            <a:ext cx="438948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Conciliación</a:t>
            </a:r>
            <a:endParaRPr b="0" lang="en-US" sz="4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2928960" y="5643720"/>
            <a:ext cx="315576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lgerianBasD"/>
              </a:rPr>
              <a:t>Respeto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lgerianBasD"/>
              <a:ea typeface="AlgerianBasD"/>
            </a:endParaRPr>
          </a:p>
        </p:txBody>
      </p:sp>
      <p:pic>
        <p:nvPicPr>
          <p:cNvPr id="202" name="7 Imagen" descr="chinalto1.JPG"/>
          <p:cNvPicPr/>
          <p:nvPr/>
        </p:nvPicPr>
        <p:blipFill>
          <a:blip r:embed="rId7"/>
          <a:stretch/>
        </p:blipFill>
        <p:spPr>
          <a:xfrm>
            <a:off x="2714760" y="2928960"/>
            <a:ext cx="3705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1 Título" descr=""/>
          <p:cNvPicPr/>
          <p:nvPr/>
        </p:nvPicPr>
        <p:blipFill>
          <a:blip r:embed="rId1"/>
          <a:stretch/>
        </p:blipFill>
        <p:spPr>
          <a:xfrm>
            <a:off x="450720" y="566640"/>
            <a:ext cx="8321760" cy="871560"/>
          </a:xfrm>
          <a:prstGeom prst="rect">
            <a:avLst/>
          </a:prstGeom>
          <a:ln w="0">
            <a:noFill/>
          </a:ln>
        </p:spPr>
      </p:pic>
      <p:sp>
        <p:nvSpPr>
          <p:cNvPr id="204" name="2 CuadroTexto"/>
          <p:cNvSpPr/>
          <p:nvPr/>
        </p:nvSpPr>
        <p:spPr>
          <a:xfrm>
            <a:off x="1071720" y="192888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HORARIO GENER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28840" y="2514600"/>
          <a:ext cx="6191280" cy="170640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1150920"/>
                <a:gridCol w="1152360"/>
                <a:gridCol w="1150920"/>
                <a:gridCol w="1016280"/>
              </a:tblGrid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RCO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E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ER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6"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AN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0" y="1000080"/>
          <a:ext cx="9144000" cy="5715000"/>
        </p:xfrm>
        <a:graphic>
          <a:graphicData uri="http://schemas.openxmlformats.org/drawingml/2006/table">
            <a:tbl>
              <a:tblPr/>
              <a:tblGrid>
                <a:gridCol w="3198960"/>
                <a:gridCol w="279360"/>
                <a:gridCol w="566640"/>
                <a:gridCol w="566640"/>
                <a:gridCol w="567000"/>
                <a:gridCol w="566640"/>
                <a:gridCol w="566640"/>
                <a:gridCol w="565200"/>
                <a:gridCol w="566640"/>
                <a:gridCol w="566640"/>
                <a:gridCol w="567000"/>
                <a:gridCol w="566640"/>
              </a:tblGrid>
              <a:tr h="26820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ROS DE COMPORTAMIEN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ER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LI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ST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TIEM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UB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IEM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CUMPLIR RESPONSABLEMENTE CON TAREAS ASIGNADA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 No cumple con las tareas asignadas por los profesores y directiva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  No hace llegar la información del colegio a sus Padres y viceversa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  No cumple con los deberes asignados en la Dirección de Curs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  No cumple con los turnos de ase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 No respeta y sigue las indicaciones del Gobernador  y Secretario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 No permanece en el aula de clas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MOSTRAR PUNTUALIDAD EN LOS ACTOS DE LA VIDA ESCOLAR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 No llega puntualmente al colegi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  No justifica por escrito sus llegadas tard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  No asiste puntualmente a clas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 No justifica sus ausencias a clas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  No asiste a todos los actos de la comunidad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  Tiene acta de compromiso convivencial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RESPETAR Y VALORAR A SUS COMPAÑEROS Y SUPERIORE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 No muestra respeto a Profesores y Directiva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  No respeta los actos de comunidad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  No usa un vocabulario adecuad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 No observa buenos modales dentro y fuera de la institución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  No cuida los enseres del colegio, sus útiles y los de sus compañero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 No cumple con las normas del Pacto de Aula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  Se apropia indebidamente de objetos ajeno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 Realiza fraude en evaluación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  No respeta a sus compañero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0  No cumple con las normas de cortesía ante profesores y directiva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1  No cumple con sus funciones en la secretaria otorgada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2  No mantiene un comportamiento social  adecuad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OBSERVAR BUENA PRESENTACION PERSONAL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  No porta adecuadamente el uniforme dentro y fuera del colegi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  Porta elementos ajenos al uniforme y/o maquillaj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  No se observa orden y aseo en sus prendas de vestir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  No utiliza el corte de cabello adecuado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3 Rectángulo"/>
          <p:cNvSpPr/>
          <p:nvPr/>
        </p:nvSpPr>
        <p:spPr>
          <a:xfrm>
            <a:off x="500760" y="357120"/>
            <a:ext cx="42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Planilla control del comportami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2 Tabla" descr=""/>
          <p:cNvPicPr/>
          <p:nvPr/>
        </p:nvPicPr>
        <p:blipFill>
          <a:blip r:embed="rId1"/>
          <a:stretch/>
        </p:blipFill>
        <p:spPr>
          <a:xfrm>
            <a:off x="1712880" y="785880"/>
            <a:ext cx="4932360" cy="5932440"/>
          </a:xfrm>
          <a:prstGeom prst="rect">
            <a:avLst/>
          </a:prstGeom>
          <a:ln w="0">
            <a:noFill/>
          </a:ln>
        </p:spPr>
      </p:pic>
      <p:sp>
        <p:nvSpPr>
          <p:cNvPr id="209" name="3 Rectángulo"/>
          <p:cNvSpPr/>
          <p:nvPr/>
        </p:nvSpPr>
        <p:spPr>
          <a:xfrm>
            <a:off x="671040" y="42876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Plan de Aul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500040" y="1171440"/>
            <a:ext cx="814392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 base para el desarrollo y progreso de nuestra sociedad y de nuestro país está en la educación; teniendo en cuenta lo anterior, nuestro Colegio se encamina a fomentar valores en los Estudiantes con el concurso de los Padres de Familia como primeros educadores para que asuman con gra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 convivencia en comunidad requiere de ciertos compromisos, los cuales se ajustan a la Constitución Nacional, a la Ley 115, al Código del Menor,  a la filosofía, principios y objetivos de la Institución que determinan las directrices al Colegio para desarrollar hábitos de comportamiento social expresados en los derechos, deberes, estímulos y correctivos que se presentan en el Manual de Convivenci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or tal motivo, los Estudiantes del grado X conscientes de esta realidad y su Director de Curso, de una manera democrática y abierta han diseñado los elementos que garantizarán el mejor ambiente de CONVIVENCIA en el aula de clase y que mediante la Conciliación serán respetados y acatados tanto por los mismos Estudiantes, Docentes y Padres de Famili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3 Rectángulo"/>
          <p:cNvSpPr/>
          <p:nvPr/>
        </p:nvSpPr>
        <p:spPr>
          <a:xfrm>
            <a:off x="1285920" y="2858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omic"/>
                <a:ea typeface="Times New Roman"/>
              </a:rPr>
              <a:t>JUSTIFICAC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642960" y="2143440"/>
            <a:ext cx="807228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rear un ambiente de sana convivencia para permitir el mejor desempeño individual y colectivo de los Educandos en el campo académico, social, cultural y científico por medio de estrategias que permitan el uso, aplicación y cumplimiento del Manual de Convivencia facilitando la dinámica y correcta interacción entre los diferentes estamentos de la Comunidad Rufinista por medio del continuo dialogo, el respeto, la tolerancia y la conciliación orientando al estudiante a descubrir  los valores propios de la sabiduría, evidenciándolos en actitudes que transformen nuestra realidad y sean parte de su proyecto de vida.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3 Rectángulo"/>
          <p:cNvSpPr/>
          <p:nvPr/>
        </p:nvSpPr>
        <p:spPr>
          <a:xfrm>
            <a:off x="1571760" y="428760"/>
            <a:ext cx="56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omic"/>
                <a:ea typeface="Times New Roman"/>
              </a:rPr>
              <a:t>OBJETIVO GENERAL</a:t>
            </a:r>
            <a:r>
              <a:rPr b="0" lang="es-ES" sz="2800" spc="-1" strike="noStrike">
                <a:solidFill>
                  <a:srgbClr val="ff0000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357120" y="885960"/>
            <a:ext cx="8429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ar los valores cívicos y sociales generando un respeto a la autoridad legítima y a la Ley, la cultura nacional, a la historia, a los símbolos patrios como fundamento a la unidad nacional y de su identidad mediante la participación e integración en las diferentes actividades para una mejor convive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ientar los valores éticos, morales y religiosos de la comunidad para un mayor compromiso como integrante de ell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acer cumplir las normas del Manual de Convivencia por parte de todos los miembros de la Comunidad Educativ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r mecanismos de control para verificar el cumplimiento del Manual de Convive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terminar el proceso para aplicar los correctivos necesarios cuando se incumplen las normas establecid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3 Rectángulo"/>
          <p:cNvSpPr/>
          <p:nvPr/>
        </p:nvSpPr>
        <p:spPr>
          <a:xfrm>
            <a:off x="214200" y="285840"/>
            <a:ext cx="835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omic"/>
                <a:ea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2 Rectángulo"/>
          <p:cNvSpPr/>
          <p:nvPr/>
        </p:nvSpPr>
        <p:spPr>
          <a:xfrm>
            <a:off x="357120" y="135720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unicar al Padre de Familia las dificultades que ha presentado el Estudiante para adaptarse a las normas de Manual de Convivencia y Pacto de Aul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terminar las normas y principios que regulen el comportamiento de Profesores, Padres de Familia y Estudiantes con el fin de ser partícipes en la sociedad y con un amplio marco de acept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3:55:58Z</dcterms:created>
  <dc:creator>OGCT</dc:creator>
  <dc:description/>
  <dc:language>en-US</dc:language>
  <cp:lastModifiedBy>OSCAR GUILLERMO CORREA TOVAR</cp:lastModifiedBy>
  <dcterms:modified xsi:type="dcterms:W3CDTF">2011-03-02T16:35:15Z</dcterms:modified>
  <cp:revision>8</cp:revision>
  <dc:subject/>
  <dc:title>PACTO DE AULA</dc:title>
</cp:coreProperties>
</file>